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wmf" ContentType="image/x-wmf"/>
  <Override PartName="/ppt/media/image4.png" ContentType="image/png"/>
  <Override PartName="/ppt/media/image9.gif" ContentType="image/gif"/>
  <Override PartName="/ppt/media/image8.gif" ContentType="image/gif"/>
  <Override PartName="/ppt/media/image19.wmf" ContentType="image/x-wmf"/>
  <Override PartName="/ppt/media/image7.gif" ContentType="image/gif"/>
  <Override PartName="/ppt/media/image20.wmf" ContentType="image/x-wmf"/>
  <Override PartName="/ppt/media/image11.gif" ContentType="image/gif"/>
  <Override PartName="/ppt/media/image21.jpeg" ContentType="image/jpeg"/>
  <Override PartName="/ppt/media/image18.gif" ContentType="image/gif"/>
  <Override PartName="/ppt/media/image16.gif" ContentType="image/gif"/>
  <Override PartName="/ppt/media/image1.wmf" ContentType="image/x-wmf"/>
  <Override PartName="/ppt/media/image15.wmf" ContentType="image/x-wmf"/>
  <Override PartName="/ppt/media/image22.jpeg" ContentType="image/jpeg"/>
  <Override PartName="/ppt/media/image17.png" ContentType="image/png"/>
  <Override PartName="/ppt/media/image14.gif" ContentType="image/gi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A89-3382-4FF2-BD39-00175B15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F56C-996C-40F1-9E00-D9C07F43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7896-BFC6-414A-A9EE-D05BA546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8F86-32F0-4652-A545-4D4399CF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4080-40C7-4C7A-92F3-DDE1B79D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3FFE-FB17-48E1-893E-48E263B0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909-B8CB-4951-8C40-9B440971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500-E35B-4C4D-80D4-21E0825F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F9AA-160B-498A-BC3B-4219C8BA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F538-C23C-4832-8BBE-065E239D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5DCE-E5A2-41C1-A8AA-26961038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B389-9D22-43BC-A24E-74DEDE67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2D5E-B66A-4076-9FB2-B56DE78C49BE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hyperlink" Target="http://images.google.com.au/imgres?imgurl=http://www.footballpictures.net/data/media/71/Argentina-Soccer-Team.jpg&amp;imgrefurl=http://www.footballpictures.net/details.php%3Fimage_id%3D588%26sessionid%3Dc0e472b574381e66e9bdea0b44fbc03b&amp;usg=__N9ThhIESRJR3z7JFD4bMDLJIpmQ=&amp;h=341&amp;w=512&amp;sz=50&amp;hl=en&amp;start=2&amp;um=1&amp;tbnid=3PvWt5WlksEMKM:&amp;tbnh=87&amp;tbnw=131&amp;prev=/images%3Fq%3Dsoccer%2Bargentina%26hl%3Den%26safe%3Dactive%26rlz%3D1T4GGLJ_enAU315%26sa%3DN%26um%3D1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260360" y="-316080"/>
            <a:ext cx="10728360" cy="7174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4000" y="0"/>
            <a:ext cx="8172360" cy="60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>
                    <a:alpha val="75000"/>
                  </a:srgbClr>
                </a:solidFill>
                <a:latin typeface="Kahootz TankGothic"/>
              </a:rPr>
              <a:t>Argenti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>
                  <a:alpha val="75000"/>
                </a:srgbClr>
              </a:solidFill>
              <a:latin typeface="Kahootz TankGothic"/>
              <a:ea typeface="Kahootz Tank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orts in 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entina’s national game is fútbol (Soccer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rgentina they also play po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an Argentinian team won the first Olympic gold medal in polo in 1924, Argentinians have dominated the 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o is played by teams of four on horseback. Players use long wooden mallets to hit a wooden ball the size of a tennis ball towards a goal at the end of the field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30240" cy="1573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056360" y="0"/>
            <a:ext cx="2087640" cy="1573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4869000"/>
            <a:ext cx="2519280" cy="1672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6227640" y="4653000"/>
            <a:ext cx="22320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"/>
              </a:rPr>
              <a:t>Tourist At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Buenos 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art your tours to Argentina with this beautiful city. Known as Paris of South America, Buenos Aires is an extremely sophisticated city with interesting characteristic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Iguazu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rgentina travel cannot get completed unless you pay a visit to the world-famous Iguazu f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a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ocated in the northern region of Argentina, Salta is the region where the weather conditions remain quite stable throughout the ye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arlow Solid Italic"/>
              </a:rPr>
              <a:t>There are heaps more beautiful places to visit in Argentina but these are the main tourist att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7c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Harlow Solid Italic"/>
              </a:rPr>
              <a:t>Fac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apital~ Buenos Ai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opulation~ 40,913,58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rgentina is the eight largest country of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official religion of Argentina is Roman Cathol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rgentina is the 30th largest country in the world by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verage life expectancy in Argentina is 76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 major export of Argentina is wine.</a:t>
            </a: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y and Beth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4752720" cy="1143000"/>
          </a:xfrm>
          <a:prstGeom prst="rect">
            <a:avLst/>
          </a:prstGeom>
          <a:solidFill>
            <a:srgbClr val="ffff66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ff66"/>
                </a:solidFill>
                <a:latin typeface="Arial Black"/>
              </a:rPr>
              <a:t>Cont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10920" y="2133720"/>
            <a:ext cx="4186440" cy="3916080"/>
          </a:xfrm>
          <a:prstGeom prst="rect">
            <a:avLst/>
          </a:prstGeom>
          <a:solidFill>
            <a:srgbClr val="99ff66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. Langu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.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. 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. Reli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5.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6.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7.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8. S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9. Tourist at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0.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2089080" cy="1671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54920" y="692280"/>
            <a:ext cx="2089080" cy="1671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ernard MT Condensed"/>
              </a:rPr>
              <a:t>Argentina Langu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Argentina's official Language is Spanis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However, if you are visiting Argentina you might see display signs written in English form to help touris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Government in 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The president and vice president are elected by the people of Argentina every four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They are republ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The current Prime Minister is Christina Colomb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4762440"/>
            <a:ext cx="1622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Curr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e Argentina currency is Argentine Peso (AR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ich is divided into 100 c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742000"/>
            <a:ext cx="1116000" cy="111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812000" y="552600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885080" y="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116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yriad Web Pro Condensed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ligion in Argentina is mainly Roman Catholic, around 7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.3% religiously indifferent, 9% protest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2% Jehovah’s Witnesses and 0.9% Morm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94680" y="4581360"/>
            <a:ext cx="1849320" cy="2276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24360" y="476280"/>
            <a:ext cx="790920" cy="790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627280" y="549360"/>
            <a:ext cx="790560" cy="790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0" y="4979880"/>
            <a:ext cx="197964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 Extra Bold"/>
              </a:rPr>
              <a:t>Transport in 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People in Argentina use buses, cargo trucks, Airports, Trains and cars to get around to different places like into t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651640" y="5445000"/>
            <a:ext cx="3492360" cy="1413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5280" y="4724280"/>
            <a:ext cx="2124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2682720" cy="28767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o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In Argentina they mostly eat meat, pastas and b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Lunchtime is their biggest meal of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erlin Sans FB Demi"/>
              </a:rPr>
              <a:t>They like to have barbeques (BBQ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451640" y="5526000"/>
            <a:ext cx="169236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ap of Argent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ve Argentina is Brazi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on the left is Ch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all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entina is in Sou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ine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entina is North W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21360" y="2133720"/>
            <a:ext cx="3122640" cy="4221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42920" y="260280"/>
            <a:ext cx="1143000" cy="1152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877080" y="260280"/>
            <a:ext cx="11430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23:56:12Z</dcterms:created>
  <dc:creator>Admin</dc:creator>
  <dc:description/>
  <dc:language>en-US</dc:language>
  <cp:lastModifiedBy>Admin</cp:lastModifiedBy>
  <dcterms:modified xsi:type="dcterms:W3CDTF">2009-05-29T03:13:39Z</dcterms:modified>
  <cp:revision>13</cp:revision>
  <dc:subject/>
  <dc:title>Slide 1</dc:title>
</cp:coreProperties>
</file>